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F78F-D808-42E9-9F36-7D82693713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766B-8C0D-4566-BC7B-10D7B302A7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1E2B-96C8-40CE-B2B7-2196831D75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66C9-8257-465E-9AC1-656EECAEE8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802-92B8-4092-80F8-FADBEB7A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654-ECB7-496B-91F0-1B57B91E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FDD-FC5D-426C-9185-A1B703E6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0923-79C8-4C6D-868C-0C748CF8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9449-C959-4474-87A4-DA1F51BF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7215-6FBB-4C86-871B-7CCB6241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48BF-5B00-4F59-A6E3-6C70BAFC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A096-49D3-49FE-AE71-BE3DFB96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7285-5BE5-40B6-9B9C-DF7DF1D9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269B-0C34-4981-9E5A-B13C0CF5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07CE-D0A1-449B-A98C-EA088714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CCD-BB89-4758-875D-D18D5EA2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3A61-29E4-4DD5-99C7-93597064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35AD-D7F4-4CC2-8BB8-D30099CF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629D-7EB9-47A7-B970-EEDACB80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0025-19EB-4CEB-9DBE-794D0234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C3A8-7B92-4268-ABB1-3BC5619A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2E5-6316-44C5-B9A0-82EA5503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F1D-DC83-465C-96E5-68715A10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F2B-9910-416F-ADB9-83784B77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E05-C74A-4EAC-B437-38967480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86B-31AF-476B-8C59-8C3DD571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39F-7855-4A77-ADF4-84CA8EF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D9C-E099-4EC8-99F2-46E5036D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3A68-0B2C-4F04-89A6-3ED8A23DA02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E385-357F-4D1E-99AD-F64FDB33F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CC73-48A2-4D6A-870A-AC0F821308B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B07D-B2C7-427A-BA01-9BF4DD1445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mailto:emil@mednet.ru" TargetMode="Externa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9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476360" y="27813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шибки при формировании формы ФС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4 «Сведения о деятельности подразделений медицинской организации, оказывающих медицинскую помощь в стационарных услов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7D7B-D3D5-4D91-A1D8-C20E150A1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6560" y="96840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880"/>
                <a:gridCol w="466560"/>
                <a:gridCol w="647640"/>
                <a:gridCol w="531720"/>
                <a:gridCol w="598680"/>
                <a:gridCol w="600120"/>
                <a:gridCol w="522360"/>
                <a:gridCol w="52200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рямоугольник 7"/>
          <p:cNvSpPr/>
          <p:nvPr/>
        </p:nvSpPr>
        <p:spPr>
          <a:xfrm>
            <a:off x="646200" y="4869000"/>
            <a:ext cx="79912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равна сумме строк (10.7.1+10.7.2+10.7.3+ 10.7.4+ 10.7.5+10.7.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о графам 4-7, 13-16 и 22-27:      14,2000,107,04:07.13:16.22:27=14,2000,380+381+333╧336,04:07.13:16.22:27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трока 10.7 больше или равна сумме строк (10.7.1+10.7.2+10.7.3+ 10.7.4+ 10.7.5+10.7.6) по графам 8-12, 17-21 и 28-33: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14,2000,107,08:12.17:21.28:33&gt;=14,2000,380+381+333╧336,08:12.17:21.28:33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6560" y="2860560"/>
          <a:ext cx="8229600" cy="1900440"/>
        </p:xfrm>
        <a:graphic>
          <a:graphicData uri="http://schemas.openxmlformats.org/drawingml/2006/table">
            <a:tbl>
              <a:tblPr/>
              <a:tblGrid>
                <a:gridCol w="2505240"/>
                <a:gridCol w="449280"/>
                <a:gridCol w="646200"/>
                <a:gridCol w="576000"/>
                <a:gridCol w="576360"/>
                <a:gridCol w="576360"/>
                <a:gridCol w="576360"/>
                <a:gridCol w="503280"/>
                <a:gridCol w="471240"/>
                <a:gridCol w="405000"/>
                <a:gridCol w="495360"/>
                <a:gridCol w="448920"/>
              </a:tblGrid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60-I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арахноидальное кровоизлия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мозговое и другое внутричерепно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излияние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1, I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аркт мозг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ульт не уточненный, как кровоизлияние  или инфарк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упорка и стеноз прецеребральных, церебральных артерий, не приводящ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инфаркту мозг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5- I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240" rIns="57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цереброваскуля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7240" rIns="57240" tIns="0" bIns="0" anchor="t">
                      <a:noAutofit/>
                    </a:bodyPr>
                    <a:p>
                      <a:pPr marL="4492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церебральный атер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7.6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FB5F-4DAA-4B95-97DF-685DC46BA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68200" y="3065400"/>
          <a:ext cx="8229600" cy="1692360"/>
        </p:xfrm>
        <a:graphic>
          <a:graphicData uri="http://schemas.openxmlformats.org/drawingml/2006/table">
            <a:tbl>
              <a:tblPr/>
              <a:tblGrid>
                <a:gridCol w="1639800"/>
                <a:gridCol w="50328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432000"/>
                <a:gridCol w="433080"/>
                <a:gridCol w="358920"/>
                <a:gridCol w="409680"/>
                <a:gridCol w="420480"/>
              </a:tblGrid>
              <a:tr h="456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е болезни миндалин и аденоидов, перитонзиллярный абсцес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35-J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ит хронический и неуточненный, эмфизем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0-J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1184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другая хроническая обструктивная легочная болезнь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ронхоэктат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J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ма; астматический стату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45, J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Прямоугольник 11"/>
          <p:cNvSpPr/>
          <p:nvPr/>
        </p:nvSpPr>
        <p:spPr>
          <a:xfrm>
            <a:off x="838080" y="4941720"/>
            <a:ext cx="7848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117-119 по графам 25 и 27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17:119,25.27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CB71-DBC8-4C9C-B13C-559AC8C7DB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5840" y="188640"/>
            <a:ext cx="8040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68200" y="907920"/>
          <a:ext cx="8229600" cy="2035440"/>
        </p:xfrm>
        <a:graphic>
          <a:graphicData uri="http://schemas.openxmlformats.org/drawingml/2006/table">
            <a:tbl>
              <a:tblPr/>
              <a:tblGrid>
                <a:gridCol w="1657440"/>
                <a:gridCol w="469800"/>
                <a:gridCol w="565200"/>
                <a:gridCol w="595440"/>
                <a:gridCol w="596880"/>
                <a:gridCol w="519120"/>
                <a:gridCol w="446040"/>
                <a:gridCol w="519120"/>
                <a:gridCol w="444600"/>
                <a:gridCol w="371520"/>
                <a:gridCol w="409320"/>
                <a:gridCol w="408240"/>
                <a:gridCol w="407880"/>
                <a:gridCol w="409680"/>
                <a:gridCol w="409320"/>
              </a:tblGrid>
              <a:tr h="137520"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 пере-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Дети (в возрасте 0-17 лет включительн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-де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 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6)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-те д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став- ленны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кст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-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.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2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2  в возрас-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28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-го-анато-мичес-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-цин-ских вскры-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-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262080" y="3032280"/>
          <a:ext cx="8215200" cy="274320"/>
        </p:xfrm>
        <a:graphic>
          <a:graphicData uri="http://schemas.openxmlformats.org/drawingml/2006/table">
            <a:tbl>
              <a:tblPr/>
              <a:tblGrid>
                <a:gridCol w="1693800"/>
                <a:gridCol w="449280"/>
                <a:gridCol w="576000"/>
                <a:gridCol w="576360"/>
                <a:gridCol w="576360"/>
                <a:gridCol w="503280"/>
                <a:gridCol w="504720"/>
                <a:gridCol w="503280"/>
                <a:gridCol w="433440"/>
                <a:gridCol w="365040"/>
                <a:gridCol w="361800"/>
                <a:gridCol w="417600"/>
                <a:gridCol w="417600"/>
                <a:gridCol w="41760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72880" y="3429000"/>
          <a:ext cx="8229600" cy="549360"/>
        </p:xfrm>
        <a:graphic>
          <a:graphicData uri="http://schemas.openxmlformats.org/drawingml/2006/table">
            <a:tbl>
              <a:tblPr/>
              <a:tblGrid>
                <a:gridCol w="1697040"/>
                <a:gridCol w="441360"/>
                <a:gridCol w="576360"/>
                <a:gridCol w="576360"/>
                <a:gridCol w="576360"/>
                <a:gridCol w="502920"/>
                <a:gridCol w="505080"/>
                <a:gridCol w="503280"/>
                <a:gridCol w="433080"/>
                <a:gridCol w="358920"/>
                <a:gridCol w="385920"/>
                <a:gridCol w="417240"/>
                <a:gridCol w="417600"/>
                <a:gridCol w="419040"/>
                <a:gridCol w="41904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91-N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t">
                      <a:noAutofit/>
                    </a:bodyPr>
                    <a:p>
                      <a:pPr marL="17928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ое бесплод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35" name="Прямоугольник 3"/>
          <p:cNvSpPr/>
          <p:nvPr/>
        </p:nvSpPr>
        <p:spPr>
          <a:xfrm>
            <a:off x="495360" y="4292640"/>
            <a:ext cx="77756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троки 5.9, 5.10, 15.10, 15.11, 16.0 по графам 25, 27 и 33 должны быть равны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59.510.364.365.160,25.27.33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E4C5-17EC-495A-9FAD-0C85BD01BB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ошибки при заполнении таблицы 2000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</a:t>
            </a:r>
            <a:r>
              <a:rPr b="1" lang="ru-RU" sz="2400" spc="-1" strike="noStrike">
                <a:solidFill>
                  <a:srgbClr val="75213f"/>
                </a:solidFill>
                <a:latin typeface="Arial"/>
                <a:ea typeface="Arial"/>
              </a:rPr>
              <a:t>Состав пациентов в стационаре, сроки и исходы ле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заболеваний по каждой строке в таблице между графами, а также между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 проведен контроль числ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чих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заболеваний по каждому классу болезней между графами, а также разделами А.Взрослые (18 лет и более) и Б.Взрослые старше трудоспособного возраста по всем строкам и граф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корректное число проведенных выписанными пациентами койко-дней. Средний койко-день не может быт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нее 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разделе В.Дети (в возрасте 0-17 лет включительно)     типичные ошибки связаны с графами 25 (выписано детей до 1 года) и 27 (проведено койко-дней в возрасте до 1 го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1B42-9B7D-4743-A7C8-C0DEC21F8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39640" y="836640"/>
          <a:ext cx="8353440" cy="4808520"/>
        </p:xfrm>
        <a:graphic>
          <a:graphicData uri="http://schemas.openxmlformats.org/drawingml/2006/table">
            <a:tbl>
              <a:tblPr/>
              <a:tblGrid>
                <a:gridCol w="1305000"/>
                <a:gridCol w="782640"/>
                <a:gridCol w="995400"/>
                <a:gridCol w="1020600"/>
                <a:gridCol w="993960"/>
                <a:gridCol w="1068480"/>
                <a:gridCol w="1035000"/>
                <a:gridCol w="1152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мер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.-мед. Вскрыт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42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Экстрапирамидные и др.двиг. наруш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79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них б-нь Паркинс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р.экстрапирамид. двиг.нару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9800">
                <a:tc>
                  <a:txBody>
                    <a:bodyPr lIns="25704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25704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-7.3.1-7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FEB0-09F1-4DAC-9B47-E106BB2FE3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1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33 5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 8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 7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534 6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2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4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8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7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8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 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0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 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 8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 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17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9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 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 3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0 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 8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 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764 2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6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 7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5A3F-A70D-4DDE-ADDC-96EBFF7F32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2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 Взрослые старше трудоспособного возра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9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 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857 7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 9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 9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6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9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2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8 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3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 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3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64 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8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6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1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 7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5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 8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 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 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7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 5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3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D591-1159-46DC-86EB-1CD69BE365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2 (часть 3)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00000" y="765000"/>
          <a:ext cx="7759800" cy="5789880"/>
        </p:xfrm>
        <a:graphic>
          <a:graphicData uri="http://schemas.openxmlformats.org/drawingml/2006/table">
            <a:tbl>
              <a:tblPr/>
              <a:tblGrid>
                <a:gridCol w="1162080"/>
                <a:gridCol w="493920"/>
                <a:gridCol w="576000"/>
                <a:gridCol w="7272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533520">
                <a:tc gridSpan="11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ш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оставленных по экстренным показа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пациентов, доставленных СМП (из гр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паталогоанатомических вск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лено расхождений диаг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судебно-медиц. вскры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-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установ. расхождений диа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реброваскулярные болез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 3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 6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4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76 8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2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 х субарахн.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6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 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утримозг и вн.череп. кровоизл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 6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аркт моз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 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 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ульт не уточне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орка и стеноз ц.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8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 4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.церебрроваскул б-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 7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7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 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86 8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1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3865-9ECB-4652-9E53-06385EEEE5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3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9640" y="907920"/>
          <a:ext cx="8229600" cy="54784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3988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из 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2320">
                <a:tc>
                  <a:txBody>
                    <a:bodyPr lIns="25704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езни вен, лимфатич. сосудов и лимфатич. уз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980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флебит и тромбофлеб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мбоз портальной в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4840">
                <a:tc>
                  <a:txBody>
                    <a:bodyPr lIns="34308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козное расширение вен нижних конеч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1F73-399B-485C-88E7-331E2D704F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4. Таблица 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39640" y="907920"/>
          <a:ext cx="8229600" cy="51181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74680"/>
                <a:gridCol w="1176480"/>
                <a:gridCol w="1174680"/>
                <a:gridCol w="1176120"/>
              </a:tblGrid>
              <a:tr h="613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.  Дети (в возрасте 0-17 лет включитель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классов и отдельных болез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22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о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(гр.26) в возрасте до 1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ень в возрасте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2200">
                <a:tc>
                  <a:txBody>
                    <a:bodyPr lIns="25704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нфекционный энтерит и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704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505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К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73120">
                <a:tc>
                  <a:txBody>
                    <a:bodyPr lIns="34308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звенный ко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A167-F85B-4A30-9055-3B35C39CE5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3276720" y="6435720"/>
            <a:ext cx="27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Москва 2018 г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1476360" y="18446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ДЕРАЛЬНОЕ СТАТИСТИЧЕСКОЕ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1619280" y="2276640"/>
            <a:ext cx="6408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СВЕДЕНИЯ О 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ПОДРАЗДЕЛЕНИЙ МЕДИЦИНСКОЙ ОРГАНИЗАЦИИ, ОКАЗЫВАЮЩИХ МЕДИЦИНСКУЮ ПОМОЩЬ В СТАЦИОНАРНЫХ УСЛОВ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Arial"/>
              </a:rPr>
              <a:t>за 201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7375e"/>
                </a:solidFill>
                <a:uFillTx/>
                <a:latin typeface="Arial"/>
              </a:rPr>
              <a:t>Форма №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Приказ Росст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б утверждении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От 19 ноября 2018 г. № 6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3A23-8D68-4B3E-9283-E82E5D18F4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5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765000"/>
          <a:ext cx="7848720" cy="541980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8233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31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7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808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D1E1-9CE6-42F8-A1AA-BCF848C51F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7. Таблица 2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55640" y="765000"/>
          <a:ext cx="7848720" cy="5510520"/>
        </p:xfrm>
        <a:graphic>
          <a:graphicData uri="http://schemas.openxmlformats.org/drawingml/2006/table">
            <a:tbl>
              <a:tblPr/>
              <a:tblGrid>
                <a:gridCol w="665280"/>
                <a:gridCol w="252360"/>
                <a:gridCol w="703080"/>
                <a:gridCol w="708120"/>
                <a:gridCol w="709560"/>
                <a:gridCol w="809640"/>
                <a:gridCol w="811440"/>
                <a:gridCol w="809640"/>
                <a:gridCol w="758520"/>
                <a:gridCol w="811440"/>
                <a:gridCol w="809640"/>
              </a:tblGrid>
              <a:tr h="915120">
                <a:tc gridSpan="5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. Взрослые (18 лет и боле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.Взрослые старше трудоспособного возра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оль (Взрослые трудоспособного возрас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пациентов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. выписанными койк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к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/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6/4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трапир. и др. двиг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2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496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болезнь Паркинс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1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6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5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6640">
                <a:tc>
                  <a:txBody>
                    <a:bodyPr lIns="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экстрапирамид. и двигат.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4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</a:tr>
            </a:tbl>
          </a:graphicData>
        </a:graphic>
      </p:graphicFrame>
      <p:sp>
        <p:nvSpPr>
          <p:cNvPr id="1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05B5-8ED9-4FF8-8252-9B5533036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</a:t>
            </a:r>
            <a:br>
              <a:rPr sz="24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Таблица 3000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 НОВОРОЖДЕННЫХ С ЗАБОЛЕВАНИЯМИ, ПОСТУПИВШИХ В ВОЗРАСТЕ 0-6 ДНЕЙ ЖИЗНИ, И ИСХОДЫ ИХ ЛЕЧЕНИЯ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268280"/>
          <a:ext cx="8229600" cy="4896000"/>
        </p:xfrm>
        <a:graphic>
          <a:graphicData uri="http://schemas.openxmlformats.org/drawingml/2006/table">
            <a:tbl>
              <a:tblPr/>
              <a:tblGrid>
                <a:gridCol w="2259000"/>
                <a:gridCol w="365040"/>
                <a:gridCol w="585720"/>
                <a:gridCol w="871560"/>
                <a:gridCol w="871560"/>
                <a:gridCol w="871560"/>
                <a:gridCol w="801720"/>
                <a:gridCol w="801720"/>
                <a:gridCol w="801720"/>
              </a:tblGrid>
              <a:tr h="106920"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заболеваний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 п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пересмотр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до 1000 г (500-999г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й тела при рождении 1000 г и более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пациентов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в первые 0-6 дней после рожд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новорожденных с заболеваниям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 заболеваниями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респираторные инфекции верхних дыхательных путей, грип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06, J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J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евмон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12-J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и кожи и подкожной клетчат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0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дленный  рост и недостаточность пита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ая травм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-P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разрыв внутричерепных тка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ровоизлияние вследствие родовой трав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001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ые нарушения, характерные для перинатального периода - всег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-P2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05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утробная гипоксия, асфиксия при род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0,P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ое расстройство у новорожденных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ая пневмони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 marL="29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ые аспирационные синдром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2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болезни, специфичные для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натального периода - все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5-P3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>
                  <a:txBody>
                    <a:bodyPr lIns="55440" rIns="55440" tIns="0" bIns="0" anchor="ctr">
                      <a:noAutofit/>
                    </a:bodyPr>
                    <a:p>
                      <a:pPr marL="21600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бактериальный сепсис новорожденног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3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литическая болезнь плода и новорожденного, водянка плода, обусловленная гемолитической болезнью; ядерная желтух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5-P5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альная желтуха, обусловленная чрезмерным гемолизом, другими и неуточненными причинами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8-P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5440" rIns="55440" tIns="0" bIns="0" anchor="ctr">
                      <a:noAutofit/>
                    </a:bodyPr>
                    <a:p>
                      <a:pPr marL="14292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оррагическая болезнь, диссеминированное внутрисосудистое свертывание у плода и новорожденного, другие перинатальные гематологически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53,P60,P6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 (пороки развития), деформации и хромосомные наруш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болезн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C8EB-AF3A-46BE-BA98-D3FEB1BB2A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684360" y="2133720"/>
            <a:ext cx="777708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Основная ошибка при заполнении данной таблицы – учет детей, выписанных и умерших в родовспомогательных учреждениях (родильных домах и перинатальных центр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D7F8-927E-4F00-A8C4-A2A8EDA1D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2.</a:t>
            </a: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«Состав новорожденных с заболеваниями, поступивших в возрасте </a:t>
            </a:r>
            <a:br>
              <a:rPr sz="2000"/>
            </a:br>
            <a:r>
              <a:rPr b="1" lang="ru-RU" sz="2000" spc="-1" strike="noStrike">
                <a:solidFill>
                  <a:srgbClr val="953735"/>
                </a:solidFill>
                <a:latin typeface="Calibri"/>
              </a:rPr>
              <a:t>0-6 дней жизни, и исходы их леч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286000" y="2136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682560" y="140328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у заполняют только учреждения, имеющие отделения (койки) патологии новорожденных и недоношенных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ходящие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в состав родовспомогательных учреждений (роддомов, перинатальных центр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 сведения о больных и заболевших детях, оставленных в палатах новорожденных родовспомогательных учреждений (отделений), сведения об  этих новорожденных показывают в таблицах 2000 и 22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Таблица заполняется только теми медицинскими организациями, в которые переводились новорожденные указанного возраста из других ЛПУ и в данной организации есть койки для выхаживания недоношенных и патологии новорожденных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11E4-217E-4F5E-975E-7C6AFD0DB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3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457200" y="836640"/>
            <a:ext cx="81471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1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 В составе многопрофильного стационара имеются родильные отделения (койки для беременных и рожениц) и отделения для новорожденных (койки патологии новорожденных и недоношенных детей). На эти койки поступают больные новорожденные в пределах своего юридического лица (т.е. внутренние переводы из родильного отделения на койки патологии новорожденных), а также больные новорожденные из других медицинских организац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переведенным новорожденным в пределах своего юр.лица (внутренние переводы) т.3000  не заполнять, заполняют т.2000 и форму 32. А в случае смерти новорожденных - т.2200. Т.3000 заполнять только переведенным из других ЛПУ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2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Медицинская организация имеет в своем составе койки для новорожденны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 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надо ли заполнять таблицу 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Заполнять в том случае, если в этой МО нет родильных отделений и на эти койки новорожденных поступают больные новорожденные из родильных отделений других ЛП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Пример 3.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В МО оказывается специализированная помощь новорожденным, в составе которой имеются педиатрические койки соответствующего профиля, реанимационные койки для новорожденных и койки интенсивной терапии для новорожденны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Вопрос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надо ли заполнять т.3000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c0472"/>
                </a:solidFill>
                <a:latin typeface="Arial"/>
              </a:rPr>
              <a:t>Ответ:</a:t>
            </a:r>
            <a:r>
              <a:rPr b="0" lang="ru-RU" sz="1500" spc="-1" strike="noStrike">
                <a:solidFill>
                  <a:srgbClr val="0c0472"/>
                </a:solidFill>
                <a:latin typeface="Arial"/>
              </a:rPr>
              <a:t> аналогичен ответу на 2-й вопрос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Форма №14 Таблица 4000</a:t>
            </a:r>
            <a:br>
              <a:rPr sz="2400"/>
            </a:br>
            <a:r>
              <a:rPr b="1" lang="ru-RU" sz="2400" spc="-1" strike="noStrike">
                <a:solidFill>
                  <a:srgbClr val="75213f"/>
                </a:solidFill>
                <a:latin typeface="Calibri"/>
              </a:rPr>
              <a:t>3. Хирургическая работа стациона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765000" y="1197000"/>
            <a:ext cx="7921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таблицу включаются сведения о всех выполненных операциях (плановых и экстренных), проведенных в лечебном учреждении, независимо от того, в каком отделении была проведе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ри проведении нескольких операций  одному и тому же пациенту в таблице показываются все операции, независимо от того, одномоментно или в разные сроки были произведены эти операци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Операция, произведенная в несколько этапов в течение одной госпитализации, учитывается как одна опер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графе «умерло оперированных в стационаре» указывается число умерших оперированных пациентов, независимо от причины смерти: заболевание, по поводу которого была произведена операция, осложнение, связанное с операцией или другие заболе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В случае смерти пациента, перенесшего несколько операций, как умершего его следуют показывать лишь по одной операции (наиболее сложной и радикальной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7679-5979-46C0-8F7F-21F82E83B5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14, 4000, 1, 03:28 = 14, 4000, 2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c0472"/>
                </a:solidFill>
                <a:latin typeface="Arial"/>
              </a:rPr>
              <a:t>╧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20 + 421, 03:2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Отсутствие дубл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Расшифровка «прочих» операций, не вошедших в предлагаемый  переч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28 - указывается число направленных материалов на морфологическое исследование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числу операций 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(Приказ МЗ РФ от 24 марта 2016 г. №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 должно быть цифр  в «закрещенных» клет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18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00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FB8C-7307-4F2B-AFD7-A5F379AB9C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c0472"/>
                </a:solidFill>
                <a:latin typeface="Calibri"/>
              </a:rPr>
              <a:t>Пример 8. Таблица 4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8360" y="981000"/>
          <a:ext cx="8148600" cy="5684760"/>
        </p:xfrm>
        <a:graphic>
          <a:graphicData uri="http://schemas.openxmlformats.org/drawingml/2006/table">
            <a:tbl>
              <a:tblPr/>
              <a:tblGrid>
                <a:gridCol w="2016000"/>
                <a:gridCol w="874800"/>
                <a:gridCol w="1314360"/>
                <a:gridCol w="1314360"/>
                <a:gridCol w="1314720"/>
                <a:gridCol w="131436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сосудистых пороках моз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на аневризм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эндоваскулярное выклю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3138-9924-4F51-ADF3-F78C9EF83F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3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имер 9. Таблица 400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765000"/>
          <a:ext cx="8640720" cy="5197680"/>
        </p:xfrm>
        <a:graphic>
          <a:graphicData uri="http://schemas.openxmlformats.org/drawingml/2006/table">
            <a:tbl>
              <a:tblPr/>
              <a:tblGrid>
                <a:gridCol w="1931760"/>
                <a:gridCol w="708120"/>
                <a:gridCol w="1200240"/>
                <a:gridCol w="1200240"/>
                <a:gridCol w="1199880"/>
                <a:gridCol w="1200240"/>
                <a:gridCol w="1200240"/>
              </a:tblGrid>
              <a:tr h="36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, проведенных в стациона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ус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детям 0-1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возрас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ключи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при эпилепсии, паркинсонизме, мышечно-тонических расстройст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резекционные и деструктивны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ановка стимуля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D0D8-C054-4D25-B2D5-02B0D3548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Arial"/>
                <a:ea typeface="Arial"/>
              </a:rPr>
              <a:t>     </a:t>
            </a:r>
            <a:r>
              <a:rPr b="1" lang="ru-RU" sz="2800" spc="-1" strike="noStrike">
                <a:solidFill>
                  <a:srgbClr val="0c0472"/>
                </a:solidFill>
                <a:latin typeface="Arial"/>
                <a:ea typeface="Arial"/>
              </a:rPr>
              <a:t>Форму федерального статистического наблюдения №14 составляют и предоставляют юридические лица – медицинские организации, имеющие подразделения, оказывающие медицинскую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C9ED-4FB3-48D7-B351-8BEE1C0608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10. Таблица 4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4360" y="1341360"/>
          <a:ext cx="7886520" cy="4486320"/>
        </p:xfrm>
        <a:graphic>
          <a:graphicData uri="http://schemas.openxmlformats.org/drawingml/2006/table">
            <a:tbl>
              <a:tblPr/>
              <a:tblGrid>
                <a:gridCol w="1577880"/>
                <a:gridCol w="1576440"/>
                <a:gridCol w="1577880"/>
                <a:gridCol w="1576440"/>
                <a:gridCol w="1577880"/>
              </a:tblGrid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гр.3 направлено материалов на морфл.иссл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сосуд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8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операции на артер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 на вен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5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3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операции по строке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6758-4CFE-4F50-BA56-776F269B3D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11. Таблицы 4000, 40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052640"/>
          <a:ext cx="7975440" cy="5522760"/>
        </p:xfrm>
        <a:graphic>
          <a:graphicData uri="http://schemas.openxmlformats.org/drawingml/2006/table">
            <a:tbl>
              <a:tblPr/>
              <a:tblGrid>
                <a:gridCol w="1008000"/>
                <a:gridCol w="865080"/>
                <a:gridCol w="790920"/>
                <a:gridCol w="1152360"/>
                <a:gridCol w="1152360"/>
                <a:gridCol w="1008360"/>
                <a:gridCol w="863640"/>
                <a:gridCol w="1134720"/>
              </a:tblGrid>
              <a:tr h="946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 4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 (Т. 4000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. 4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из гр. 11 таб.4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операций с осложн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с применением В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нтгенэндоваскулярные диля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: со стентирова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.1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ae26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из строки 8.1.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05C5-8239-4064-85FC-A38655CD81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1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87280" y="1557360"/>
          <a:ext cx="6212160" cy="2286000"/>
        </p:xfrm>
        <a:graphic>
          <a:graphicData uri="http://schemas.openxmlformats.org/drawingml/2006/table">
            <a:tbl>
              <a:tblPr/>
              <a:tblGrid>
                <a:gridCol w="2643480"/>
                <a:gridCol w="758880"/>
                <a:gridCol w="760320"/>
                <a:gridCol w="760320"/>
                <a:gridCol w="1289160"/>
              </a:tblGrid>
              <a:tr h="152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анестез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анестезий, е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ациентов, ч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госед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ая (субарахноидальная)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нально-эпиду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тальная внутриве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ый эндотрахеальный нарк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етан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краль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полостная анесте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31E2-7391-47E7-AA1B-0A6DBD623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3960" y="1773360"/>
          <a:ext cx="8229600" cy="3352680"/>
        </p:xfrm>
        <a:graphic>
          <a:graphicData uri="http://schemas.openxmlformats.org/drawingml/2006/table">
            <a:tbl>
              <a:tblPr/>
              <a:tblGrid>
                <a:gridCol w="1905120"/>
                <a:gridCol w="457200"/>
                <a:gridCol w="990720"/>
                <a:gridCol w="685800"/>
                <a:gridCol w="799920"/>
                <a:gridCol w="723960"/>
                <a:gridCol w="762120"/>
                <a:gridCol w="685800"/>
                <a:gridCol w="1218960"/>
              </a:tblGrid>
              <a:tr h="13708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трансплант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операций (трансплантаций) -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пераций,  при которых наблюдалис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иро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 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фолог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всего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ой желе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ой киш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 marL="8892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ного моз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лантации 2-х и более орган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82F1-59D8-445E-A5D5-BC93B1AF1B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42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у вносится информация о пересадке органов, а из тканей – только о костном моз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Данные о пересадке тканей (роговицы, свободного кожного лоскута и т.д.) не вносятся в табл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таблице не показываются реконструктивно-пластические операции с использованием аутотрансплантатов органов или тканей человека, а также с использованием медицинских изделий, полученных из органов или тканей челове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строку «прочие органы» вносится информация о пересадке трахеи, верхней конечности и ее фрагментов, нижней конечности и ее конеч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 графе 9 необходимо указывать число направленных материалов на морфологическое исследование по числу трансплантаций  (Приказ МЗ РФ от 24 марта 2016 г. № 179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Необходимо проведение сверки данных таблицы с отраслевой формой №63 – должно быть строгое соотве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7552-1AE7-42D3-B248-CBD74FD08A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Ошибки, связанные с некорректным кодированием по МКБ-10 основного заболевания и первоначальной причины смерти паци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F6E4-8C84-47D7-81A1-3F37335FC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Кодирование ишемических болезней сердц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енокардия не может быть  первоначальной причиной смерти пациент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Пациент поступает с диагнозом: Стенокардия (Нестабильная стенокардия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Выписывается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с диагнозом: Стенокардия (Нестабильная стенокардия) строка 10.4.1 или 10.4.1.1 графа 4 (13, 2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В случае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смерти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 больного, поступившего с диагнозом Стенокардия (Нестабильная стенокардия) используется 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код </a:t>
            </a:r>
            <a:r>
              <a:rPr b="1" lang="en-US" sz="2000" spc="-1" strike="noStrike">
                <a:solidFill>
                  <a:srgbClr val="0c0472"/>
                </a:solidFill>
                <a:latin typeface="Calibri"/>
              </a:rPr>
              <a:t>I25</a:t>
            </a:r>
            <a:r>
              <a:rPr b="1" lang="ru-RU" sz="2000" spc="-1" strike="noStrike">
                <a:solidFill>
                  <a:srgbClr val="0c0472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c0472"/>
                </a:solidFill>
                <a:latin typeface="Calibri"/>
              </a:rPr>
              <a:t>–Хроническая ишемическая болезнь сердца - строка 10.4.5, графа 8 (17, 2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A028-94EA-4B22-A72E-6134A6D246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1116000" y="1484280"/>
            <a:ext cx="755964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ого или повторного инфаркта миокарда следует помнить, что не все случаи инфарктов миокарда кодируются  I21-I2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ого или повторного инфаркта миокарда со злокачественным новообразованием, сахарным диабетом или бронхиальной астмой первоначальной причиной смерти считают эти заболевания, а инфаркты миокарда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28 дней от начала возникновения инфаркта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й или повторный инфаркт миокарда (коды I21-I22) в промежуток времени до 28 дней или в пределах эпизода оказания медицинской помощи (даже, если эпизод закончился позже 28 дней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инфаркта миокарда был установлен после 28 дней от  его возникновения, первоначальной причиной смерти следует считать постинфарктный кардиосклероз, код I25.8 (МКБ-10, т. 1, ч. 1, стр. 49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EC4C-5785-4ABA-8851-F5C083113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ишемических болезней сердца 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1116000" y="1484280"/>
            <a:ext cx="75596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 I25.2 в качестве первоначальной причины смерти не применяется, данное состояние обозначает инфаркт миокарда, перенесенный в прошлом и диагностированный по ЭКГ, в текущий период – бессимптомный. При наличии в первичной медицинской документации записи о перенесенном в прошлом инфаркте миокарда как единичном состоянии и отсутствии диагнозов других заболеваний, первоначальной причиной смерти следует считать постинфарктный кардиосклероз, код I25.8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23 и I24.0 в качестве первоначальной причины смерти также не применяются, необходимо использовать коды I21-I22 (МКБ-10, т. 2, стр. 61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 при сочетании инфаркта миокарда (острого или повторного) с болезнями, характеризующимися повышенным кровяным давлением, приоритет при выборе первоначальной причины смерти всегда отдается инфаркту миокарда (МКБ-10, т. 2, стр. 59-6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72D6-0FE8-40F6-BF0D-AF8FFBD03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Схема 1" descr=""/>
          <p:cNvPicPr/>
          <p:nvPr/>
        </p:nvPicPr>
        <p:blipFill>
          <a:blip r:embed="rId1"/>
          <a:stretch/>
        </p:blipFill>
        <p:spPr>
          <a:xfrm>
            <a:off x="785880" y="390600"/>
            <a:ext cx="7572240" cy="5645160"/>
          </a:xfrm>
          <a:prstGeom prst="rect">
            <a:avLst/>
          </a:prstGeom>
          <a:ln w="0">
            <a:noFill/>
          </a:ln>
        </p:spPr>
      </p:pic>
      <p:sp>
        <p:nvSpPr>
          <p:cNvPr id="21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5886-81F3-418B-829C-0B4351CAA5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Источники информации 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  <a:ea typeface="Arial"/>
              </a:rPr>
              <a:t>при составлении формы №14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42920" y="13413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66/у-02 «Статистическая карта выбывшего из стационара круглосуточного пребыва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16/у-02 «Ведомость учета движения пациентов и коечного фонда стациона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001 «Журнал учета приема больных и отказов в госпитализац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003/у «Медицинская карта стационарного больного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орма №106/у-08 «Медицинское свидетельство о смерти и форма №106-2/у-08 «Медицинское свидетельство о перинатальной смертност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4772-C33F-49E4-B718-65735988CB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64480" cy="556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Сепсис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является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сложнением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обширных гнойных процессов (одонтогенных, остеогенных, отогенных, тонзиллогенных, риногенных, генитальных, урогенных, раневых и т.д.).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редких случая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гда причину сепсиса установить не удается, он носит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птоген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кодируется как самостоятельная нозологическая фор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  <a:ea typeface="Times New Roman"/>
              </a:rPr>
              <a:t>Необходимо обратить внимание на такое нарушение, когда в акушерско-гинекологической практике сепсис регистрируется не как осложнение аборта, беременности, родов и послеродового периода, а как криптогенное заболе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1856-4134-421D-A910-039172A0C4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СЕПСИСА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68360" y="1413000"/>
          <a:ext cx="8229600" cy="4349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сепсиса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ы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 (взрослые+де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C3D5-DFED-4A99-8CD2-E2746FC5DF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446040" y="1270080"/>
            <a:ext cx="8253360" cy="49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РИЧИНЫ ХРОНИЧЕСКОЙ ПОЧЕЧНОЙ НЕДОСТА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 Хронический гломерулонефрит (поражение клубочкового аппарата почек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 Вторичные поражения почек, вызванны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сахарным диабетом 1 и 2 типа;</a:t>
            </a:r>
            <a:br>
              <a:rPr sz="1800"/>
            </a:b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- артериальной гипертензией;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заболеваниями соединительной ткан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русным гепатитом «В» и/или «С»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ными васкулитам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дагрой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аляр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локачественными новообразования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 Хронический пиелонефри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 Мочекаменная болезнь, обструкция мочевыводящих пут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 Аномалии развития мочевыделительной систе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 Поликистоз поче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 Действие токсических веществ и лек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2296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</a:rPr>
              <a:t>ПОЧЕЧНАЯ НЕДОСТАТОЧ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EEBA-50D7-4CD7-A3A6-C8942323D6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ДИНАМИКА ЛЕТАЛЬНОСТИ ОТ ПОЧЕЧНОЙ НЕДОСТАТОЧНОСТИ В СТАЦИОНАРА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6920" y="1628640"/>
          <a:ext cx="7129800" cy="4489560"/>
        </p:xfrm>
        <a:graphic>
          <a:graphicData uri="http://schemas.openxmlformats.org/drawingml/2006/table">
            <a:tbl>
              <a:tblPr/>
              <a:tblGrid>
                <a:gridCol w="828720"/>
                <a:gridCol w="1835280"/>
                <a:gridCol w="1873080"/>
                <a:gridCol w="2592720"/>
              </a:tblGrid>
              <a:tr h="542880">
                <a:tc rowSpan="2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ы лечения почечной недостаточности в стациона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зрослые +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 летальности в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63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6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1746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4762-4A7A-4941-B083-2B5D7A118D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7" descr=""/>
          <p:cNvPicPr/>
          <p:nvPr/>
        </p:nvPicPr>
        <p:blipFill>
          <a:blip r:embed="rId1"/>
          <a:stretch/>
        </p:blipFill>
        <p:spPr>
          <a:xfrm>
            <a:off x="612720" y="246240"/>
            <a:ext cx="719280" cy="6616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8"/>
          <p:cNvSpPr/>
          <p:nvPr/>
        </p:nvSpPr>
        <p:spPr>
          <a:xfrm>
            <a:off x="1547640" y="260280"/>
            <a:ext cx="698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ятельность стационар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ПТ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26920" y="1197000"/>
          <a:ext cx="7797960" cy="4236840"/>
        </p:xfrm>
        <a:graphic>
          <a:graphicData uri="http://schemas.openxmlformats.org/drawingml/2006/table">
            <a:tbl>
              <a:tblPr/>
              <a:tblGrid>
                <a:gridCol w="1559160"/>
                <a:gridCol w="1560600"/>
                <a:gridCol w="1558800"/>
                <a:gridCol w="1560600"/>
                <a:gridCol w="1558800"/>
              </a:tblGrid>
              <a:tr h="304920"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росл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иса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9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FEE0-E92B-4C3D-AF57-71401F13F1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ятельность стационаров Российской Федераци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ИМПТО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Прямоугольник 2"/>
          <p:cNvSpPr/>
          <p:nvPr/>
        </p:nvSpPr>
        <p:spPr>
          <a:xfrm>
            <a:off x="900000" y="1557360"/>
            <a:ext cx="763272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ациенты с симптомами заболевания госпитализируются для уточнения диагноза.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диагноз заболевания не уточнен, эти случаи госпитализации следует рассматривать как обследование и должны регистрироваться в строке 21.0 «Факторы, влияющие на состояние здоровья и обращения в учреждения здравоохране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ый случай летального исхода по классу 18 МКБ-10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(симптомы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олжен быть подтвержден письменной копией посмертного заключительного диагноза при сдаче годового отчета с указанием кода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се случаи выписки пациентов с диагнозом по классу 18 МКБ-10 (симптомы) должны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тверждены письменно с указанием кода и пояснением причины использования данного 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6EAB-A4E0-4073-9948-C09EC605A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рость – первоначальная причина смер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684360" y="1125360"/>
            <a:ext cx="813564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Термин «старость» относится к неточно обозначенным состояниям (в соответствии с правилом А модификации выбранной причины смерти). </a:t>
            </a:r>
            <a:br>
              <a:rPr sz="1800"/>
            </a:b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тарость не может быть выбрана в качестве первоначальной причины смерти при наличии любого состояния, классифицированного в других рубриках (МКБ-10, том 2, стр. 46-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итериями использ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4 «Старость» в качестве первоначальной причины смерти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старше 80 л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в медицинской документации указаний на хронические заболевания, травмы и их последствия, способные вызвать смер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утствие подозрений на насильственную 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и проведении патологоанатомического или судебно-медицинского вскрытия  умершего в возрасте старше 80 лет отсутствие патологических изменений в органах и тканях невозможно. После проведения вскрытия с учетом гистологических данных, должны быть определены конкретные причины, приведшие к смерти, что исключает использования термина «Старость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2DFA-39E0-4BF0-B675-6FF8F7FE2E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Состояния, которые не могут быть первоначальной причиной летального исхода в стационаре</a:t>
            </a: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Сепс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Почечная недостаточ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Ожир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3866400"/>
            <a:ext cx="8229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аждый случай летального исхода при использовании этих осложнений в качестве причины смерти должен быть подтвержден письменной копией посмертного заключительного диагноза при сдаче годового отчета с указанием кода МКБ о первоначальной причин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EC29-2504-4540-8F74-CCA79DD791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Необходимо представить подтверждения на следующие случаи смер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672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Сепсис (А40-41, строка 2.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Анемии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D50-D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4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жирение (Е66, строка 5.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Психические расстройства и расстройства поведения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F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-F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0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9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рипп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9-J11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2 )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SzPct val="13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Острые респираторные  инфекции верхних дыхательных путей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J00-J06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1.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Язва желудка и двенадцатиперстной кишки (К25-К26, строка 12.1) – для детей 0-17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астрит и дуоденит (К29, строка 12.2) – для взрослых 18 лет и стар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Все случаи смерти женщин (от внематочной беременности, аборта, беременных, рожениц и родильниц) (О00-О99, строка 16.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Расстройства вегетативной нервной системы (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G90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7.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Геморрой</a:t>
            </a:r>
            <a:r>
              <a:rPr b="1" lang="en-US" sz="1800" spc="-1" strike="noStrike">
                <a:solidFill>
                  <a:srgbClr val="0c0472"/>
                </a:solidFill>
                <a:latin typeface="Calibri"/>
              </a:rPr>
              <a:t> (K64</a:t>
            </a:r>
            <a:r>
              <a:rPr b="1" lang="ru-RU" sz="1800" spc="-1" strike="noStrike">
                <a:solidFill>
                  <a:srgbClr val="0c0472"/>
                </a:solidFill>
                <a:latin typeface="Calibri"/>
              </a:rPr>
              <a:t>, строка 12.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0A87-57D1-4BDD-8248-2AAD07B790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ДИНАМИКА ЛЕТАЛЬНОСТИ ОТ ОЖИРЕНИЯ В СТАЦИОНАРА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413000"/>
          <a:ext cx="8229600" cy="4714920"/>
        </p:xfrm>
        <a:graphic>
          <a:graphicData uri="http://schemas.openxmlformats.org/drawingml/2006/table">
            <a:tbl>
              <a:tblPr/>
              <a:tblGrid>
                <a:gridCol w="2057400"/>
                <a:gridCol w="1254240"/>
                <a:gridCol w="803160"/>
                <a:gridCol w="1212840"/>
                <a:gridCol w="844560"/>
                <a:gridCol w="1171440"/>
                <a:gridCol w="885960"/>
              </a:tblGrid>
              <a:tr h="37152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ы  ожирения в стациона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исан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ло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 летальност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зросл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F424-00C1-49DA-97D9-086ADF9693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Форма 14 </a:t>
            </a:r>
            <a:br>
              <a:rPr sz="2400"/>
            </a:b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Arial"/>
              </a:rPr>
              <a:t>Основные принципы форм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Использование МКБ -10 пересмот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Заключительный клинический диагн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основное заболева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c0472"/>
                </a:solidFill>
                <a:latin typeface="Calibri"/>
              </a:rPr>
              <a:t>Только первоначальная причина смер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Calibri"/>
              </a:rPr>
              <a:t>При составлении Формы для отнесения заболеваний к той или иной нозологической форме или классу заболеваний, следует руководствоваться заключительным клиническим диагнозом, а в случае смерти – первоначальной причиной смерти. 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В Форму включаются только те заболевания, которые выставлены в качестве «основного заболевания». Если состояния, указанные в строках 10.6.6,10.6.7, 10.6.8 и 10.6.9 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сердно-желудочковая (атриовентрикулярная) блока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елудочковая тахикардия, фибрилляция и трепетание предсердий, синдром слабости синусового узла</a:t>
            </a: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]</a:t>
            </a:r>
            <a:r>
              <a:rPr b="1" lang="ru-RU" sz="1800" spc="-1" strike="noStrike">
                <a:solidFill>
                  <a:srgbClr val="800000"/>
                </a:solidFill>
                <a:latin typeface="Calibri"/>
              </a:rPr>
              <a:t> являются осложнением «основного заболевания», они в Форму не включают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8D07-64E8-46F3-859D-F587EC97E4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684360" y="1341360"/>
            <a:ext cx="7991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нфекционных и паразитарных болезней (рубрики охватывают все инфекционные и паразитарные болезни) В90-В9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недостаточности питания и недостатка других питательных веществ Е6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избыточности питания Е6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спалительных болезней центральной нервной системы G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цереброваскулярных болезней I6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Смерть матери от последствий прямых акушерских причин O9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c0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c0472"/>
                </a:solidFill>
                <a:latin typeface="Arial"/>
              </a:rPr>
              <a:t>Последствия воздействия внешних причин заболеваемости и смертности Y85-Y8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576360" y="3459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РУБРИКИ ПОСЛЕДСТВИЙ МКБ-10, ПРЕДНАЗНАЧЕННЫЕ ДЛЯ КОДИРОВАНИЯ ТОЛЬКО ПЕРВОНАЧАЛЬНОЙ ПРИЧИНЫ СМЕР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FD41-D0A3-4664-910B-2B2A53E473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"/>
          <p:cNvSpPr/>
          <p:nvPr/>
        </p:nvSpPr>
        <p:spPr>
          <a:xfrm>
            <a:off x="1116000" y="1484280"/>
            <a:ext cx="7559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личают острые формы цереброваскулярных болезней продолжительностью до 30 дней (приказ  Минздравсоцразвития России от 01.08.2007 № 513) – рубрики I60-I66; хронические формы, классифицированы в рубрике I6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(рубрика I69) используются только для регистрации летальных исх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ствия цереброваскулярных болезней существуют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течение года и более с момента возникновения острой формы заболева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ключают в себя различные состояния, классифицированные в других рубриках (МКБ-10, т. 1, ч. 1, стр. 512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татистике заболеваемости не следует использовать рубрику последствий (I69), а необходимо указывать конкретные состояния, которые явились следствием острых форм цереброваскулярных болезней, например, энцефалопатия, паралич и т.д. (МКБ-10, т. 2, стр.115-116). При этом минимальный промежуток времени не установл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B94E-F6F1-47A2-9AB5-E5F9C5FC3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2"/>
          <p:cNvSpPr/>
          <p:nvPr/>
        </p:nvSpPr>
        <p:spPr>
          <a:xfrm>
            <a:off x="684360" y="404640"/>
            <a:ext cx="80280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(Из Рекомендаций  по кодированию некоторых заболеваний из класса IX  «Болезни системы кровообращения» МКБ-10, утвержд. письмом МЗ РФ № 14-9/10/2-415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d2f39"/>
                </a:solidFill>
                <a:latin typeface="Arial"/>
              </a:rPr>
              <a:t>от 26 апреля 2011 г.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4"/>
          <p:cNvSpPr/>
          <p:nvPr/>
        </p:nvSpPr>
        <p:spPr>
          <a:xfrm>
            <a:off x="1116000" y="1484280"/>
            <a:ext cx="755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ределах эпизода оказания медицинской помощи, если диагноз эпизода или госпитализации; установлен до 30 дней от начала заболевания, то  регистрируют острые формы цереброваскулярных болезней, независимо от продолжительности эпизода или госпит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, в пределах 30 дней закончилась первая госпитализация и началась вторая, то при второй госпитализации регистрируют  хроническую форму, классифицированную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одно из состояний в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эпизод оказания медицинской помощи начался позже 30 дней, то регистрируют 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ли состояния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рубриках конкретных неврологических расстройст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последств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520C-6B95-4878-B592-B090C02B40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187280" y="345960"/>
            <a:ext cx="73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дирование цереброваскулярных болез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d2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116000" y="1484280"/>
            <a:ext cx="75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5"/>
          <p:cNvSpPr/>
          <p:nvPr/>
        </p:nvSpPr>
        <p:spPr>
          <a:xfrm>
            <a:off x="684360" y="1125360"/>
            <a:ext cx="81356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лучае смерти от острых форм цереброваскулярных болезней следует помнить, что не все эти случаи кодируются  I60-I64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ри сочетании острых форм цереброваскулярных болезней со злокачественным новообразованием, сахарным диабетом или бронхиальной астмой первоначальной причиной смерти считают эти заболевания, а острые формы цереброваскулярных болезней – их осложнениями (МКБ-10, т. 2, стр. 75), данные сочетания должны быть правильно отражены в заключительном посмертном диагнозе, промежуток времени сохраняется – не позднее 30 дней от начала возникновения заболевания или в пределах эпизода оказания медицинской помощ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 остальных случаях первоначальной причиной смерти следует считать острые формы цереброваскулярных болезней (код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0-I6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в промежуток времени до 30 дней или в пределах эпизода оказания медицинской помощи (даже, если он закончился позже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если диагноз установлен после 30 дней от возникновения заболевания, первоначальной причиной смерти следует считать хронические формы, классифицированные в рубрике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7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ли последствия цереброваскулярных болезней (рубрик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I6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ды I65 и I66 в качестве первоначальной причины смерти не применяются, необходимо использовать коды I63 (МКБ-10, т. 2, стр. 6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1550-D9AB-4E67-8042-5850296E0A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Схема 1" descr=""/>
          <p:cNvPicPr/>
          <p:nvPr/>
        </p:nvPicPr>
        <p:blipFill>
          <a:blip r:embed="rId1"/>
          <a:stretch/>
        </p:blipFill>
        <p:spPr>
          <a:xfrm>
            <a:off x="957240" y="182520"/>
            <a:ext cx="7589880" cy="5627880"/>
          </a:xfrm>
          <a:prstGeom prst="rect">
            <a:avLst/>
          </a:prstGeom>
          <a:ln w="0">
            <a:noFill/>
          </a:ln>
        </p:spPr>
      </p:pic>
      <p:sp>
        <p:nvSpPr>
          <p:cNvPr id="2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261E-3B59-4407-9C5D-0AA70782AA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628640"/>
            <a:ext cx="8062920" cy="28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В последние годы в связи с реализацией  Федеральных нацпроектов и проведением мониторинга мероприятий по снижению смертности от 7 нозологий в Российской Федерации наблюдается тенденция к росту смертности по классам болезней и нозологиям, по которым наблюдение не осуществляется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c0472"/>
                </a:solidFill>
                <a:latin typeface="Calibri"/>
              </a:rPr>
              <a:t>При наличии достаточно высокого числа летальных исходов по данным классам болезней и нозологиям следует предоставить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список первоначальных причин смерти с кодами по МКБ-10 и пояснения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5BF2-4B53-4DB7-A67C-DC2FCE2170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dravmanager.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Прямоугольник 2"/>
          <p:cNvSpPr/>
          <p:nvPr/>
        </p:nvSpPr>
        <p:spPr>
          <a:xfrm>
            <a:off x="1116000" y="836640"/>
            <a:ext cx="6840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НОШКИ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лена Михайл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едущий научный сотрудник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андидат медицинских 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почта: </a:t>
            </a:r>
            <a:r>
              <a:rPr b="1" lang="en-US" sz="1800" spc="-1" strike="noStrike">
                <a:solidFill>
                  <a:srgbClr val="0c0472"/>
                </a:solidFill>
                <a:latin typeface="Arial"/>
              </a:rPr>
              <a:t>manoshkina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@mednet.ru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925-299-78-01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50D7-2881-4A5F-B7CD-88D0A8A9F5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266840" y="2708280"/>
            <a:ext cx="66103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5061-079F-4710-94C7-C3420E453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11280" y="1844640"/>
            <a:ext cx="78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включаются све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всех выписанных пациентах изо всех стациона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доставленных по экстренным показаниям, в том числе СМ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проведенных койко-дня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б умерших во всех стационар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c0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о числе вскрытий (патологоанатомических и судебно-медицинских) и числе расхождений диагн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900000" y="620640"/>
            <a:ext cx="7632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 </a:t>
            </a: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712800" y="41529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В таблицу не включаются сведения о пациентах, переведенных в другие организации (стациона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переведенных госпитализированных показываются в  таблице 2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CF6C-3A71-4931-8F54-BD041DFEB9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611280" y="184464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числе умерших беременных, а также женщин, умерших в течение 42 дней после окончания беременности независимо от ее продолжительности и локализации от какой-либо причины, связанной с беременностью, отягощенной ею или ее ведением, но не от несчастного случая или случайно возникшей причины, в соответствии с критериями ВОЗ, включаются в строку 16.0 «Беременность, роды и послеродовый период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472"/>
                </a:solidFill>
                <a:latin typeface="Arial"/>
              </a:rPr>
              <a:t>Сведения о  случаях смерти женщин по истечении 42 дней после беременности показываются в форме на общих основан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971640" y="311040"/>
            <a:ext cx="763272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Форма №14</a:t>
            </a:r>
            <a:br>
              <a:rPr sz="2500"/>
            </a:br>
            <a:r>
              <a:rPr b="1" lang="ru-RU" sz="2500" spc="-1" strike="noStrike">
                <a:solidFill>
                  <a:srgbClr val="660033"/>
                </a:solidFill>
                <a:latin typeface="Arial"/>
              </a:rPr>
              <a:t>Таблица 2000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75213f"/>
                </a:solidFill>
                <a:latin typeface="Arial"/>
              </a:rPr>
              <a:t>Состав пациентов в стационаре, сроки и исходы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B0F9-67E0-46E9-AF54-DB1E8DE3F3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  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" y="3330720"/>
          <a:ext cx="8234280" cy="1536480"/>
        </p:xfrm>
        <a:graphic>
          <a:graphicData uri="http://schemas.openxmlformats.org/drawingml/2006/table">
            <a:tbl>
              <a:tblPr/>
              <a:tblGrid>
                <a:gridCol w="2543040"/>
                <a:gridCol w="454320"/>
                <a:gridCol w="610920"/>
                <a:gridCol w="478080"/>
                <a:gridCol w="609480"/>
                <a:gridCol w="611280"/>
                <a:gridCol w="609480"/>
                <a:gridCol w="455760"/>
                <a:gridCol w="465120"/>
                <a:gridCol w="465120"/>
                <a:gridCol w="466560"/>
                <a:gridCol w="465120"/>
              </a:tblGrid>
              <a:tr h="2077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олезни, характеризующиеся повышенным    кровяным давлени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r>
                        <a:rPr b="1" lang="en-US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3040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сенциальная гипертенз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(гипертоническая болезнь с преимущественным поражением сердц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почек (гипертоническая болезнь с преимущественным поражением  почек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ертензивная болезнь сердца и  почек (гипертоническая болезнь с преимущественным поражением сердца и почек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3 равна сумме строк (10.3.1+10.3.2+10.3.3+ 0.3.4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3,04:33=14,2000,313╧316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305A-4E48-4D75-9C05-24EE9B8B86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Форма 14 Таблица 2000</a:t>
            </a:r>
            <a:br>
              <a:rPr sz="2000"/>
            </a:br>
            <a:r>
              <a:rPr b="1" lang="ru-RU" sz="2000" spc="-1" strike="noStrike">
                <a:solidFill>
                  <a:srgbClr val="660033"/>
                </a:solidFill>
                <a:latin typeface="Arial"/>
                <a:ea typeface="Arial"/>
              </a:rPr>
              <a:t>Некоторые условия контр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417680"/>
          <a:ext cx="8229600" cy="1782720"/>
        </p:xfrm>
        <a:graphic>
          <a:graphicData uri="http://schemas.openxmlformats.org/drawingml/2006/table">
            <a:tbl>
              <a:tblPr/>
              <a:tblGrid>
                <a:gridCol w="2495520"/>
                <a:gridCol w="466920"/>
                <a:gridCol w="647640"/>
                <a:gridCol w="531720"/>
                <a:gridCol w="598320"/>
                <a:gridCol w="600120"/>
                <a:gridCol w="522360"/>
                <a:gridCol w="522360"/>
                <a:gridCol w="460440"/>
                <a:gridCol w="461880"/>
                <a:gridCol w="460440"/>
                <a:gridCol w="461880"/>
              </a:tblGrid>
              <a:tr h="137520"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КБ-10 пересмот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Взрослые (18 лет и боле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выписа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йко-дн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о- ставлен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х п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ренны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н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 помощь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ts val="84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ологоанато-мических 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-но судебно-медицин-ских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крыт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станов-ле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ж-дений диагноз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Прямоугольник 7"/>
          <p:cNvSpPr/>
          <p:nvPr/>
        </p:nvSpPr>
        <p:spPr>
          <a:xfrm>
            <a:off x="646200" y="4869000"/>
            <a:ext cx="79912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трока 10.4 равна сумме строк (10.4.1+10.4.2+10.4.3+ 10.4.4+ 10.4.5) по всем граф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4,2000,104,04:33=14,2000,317+319+320+372+373,04:33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3314880"/>
          <a:ext cx="8229600" cy="1600200"/>
        </p:xfrm>
        <a:graphic>
          <a:graphicData uri="http://schemas.openxmlformats.org/drawingml/2006/table">
            <a:tbl>
              <a:tblPr/>
              <a:tblGrid>
                <a:gridCol w="2538360"/>
                <a:gridCol w="453960"/>
                <a:gridCol w="611280"/>
                <a:gridCol w="582480"/>
                <a:gridCol w="576360"/>
                <a:gridCol w="576360"/>
                <a:gridCol w="504720"/>
                <a:gridCol w="523800"/>
                <a:gridCol w="465120"/>
                <a:gridCol w="465120"/>
                <a:gridCol w="466920"/>
                <a:gridCol w="465120"/>
              </a:tblGrid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ишемические болезни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0- </a:t>
                      </a:r>
                      <a:r>
                        <a:rPr b="1" lang="en-US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нестабильная стенокард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торный инфаркт миокар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формы острых ишемических болезней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57960" rIns="57960" tIns="0" bIns="0" anchor="ctr">
                      <a:noAutofit/>
                    </a:bodyPr>
                    <a:p>
                      <a:pPr marL="270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ая ишемическая болезнь серд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ее: постинфарктный кардиосклеро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.5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5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7B63-A7E6-4F44-ADDD-2E7275A726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7T11:05:35Z</dcterms:created>
  <dc:creator>Арсений А. Кучерявый</dc:creator>
  <dc:description/>
  <dc:language>en-US</dc:language>
  <cp:lastModifiedBy>emano</cp:lastModifiedBy>
  <cp:lastPrinted>2018-11-24T15:54:01Z</cp:lastPrinted>
  <dcterms:modified xsi:type="dcterms:W3CDTF">2019-12-01T21:41:00Z</dcterms:modified>
  <cp:revision>659</cp:revision>
  <dc:subject/>
  <dc:title>Видеотрансляция по вопросам мониторинга донорских органов и тканей человека, доноров органов и тканей, пациентов (реципиентов)</dc:title>
</cp:coreProperties>
</file>